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0864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FF84-1A79-4BB8-9D2E-AE6D98407D2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0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state the purpose of experimental research and list the basic steps involved in conducting and controlling an experi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define internal validity and describe eight major threats to the internal validity of an experi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17440"/>
            <a:ext cx="68580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numerous challenges for experimental studies in educational setti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ck of sufficient exposure to treatments (i.e., treatments are too short or diffu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to make treatments significantly different from one another (e.g., an experimental instructional program in math may not be different enough from the comparison math instructional program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2017440"/>
            <a:ext cx="670572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ipulation and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studies, researchers control or remove the influence of extraneous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smic (e.g., 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vening (e.g., intere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variables (e.g., school or teacher effec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periment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alidity refers to the degree to which observed differences in the dependent variable are a direct result of manipulation of the independent variable and not some other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alidity is concerned with rival explanations for an eff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periment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alidity, sometimes referred to as ecological validity, is the degree to which the results from a study are generalizable to other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researchers increase the internal validity of their study, they decrease their extern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periment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researchers are concerned with external validity, their ability to control important extraneous variables suff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re is a choice, researchers should err on the side of control and maximize intern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selection of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-maturation and interactive eff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event occurring during a study that is not part of the experimental treatment but that may effect the dependent variable represents a history thr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-lasting studies are more prone to history threa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threat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study of the effects of instructional simulations in learning chemistry content, a history threat would be demonstrated if students in the study were exposed to simulations in a different setting, such as when learning geography, while the study was being conducted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uration refers to physical, intellectual, and emotional changes that naturally occur within participants over a period of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uration threat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tudies of interventions that are designed to increase children’s theory of mind, if the interventions lasted more than a couple of weeks at critical time points, participants may gain critical theory of mind awareness simply due to cognitive development and not due to the treat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0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define external validity and describe six major threats to the external validity of an experi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briefly describe five ways to control extraneous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s a threat to internal validity is demonstrated when taking a pretest alters the result of a postt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ru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mentation is a threat to internal validity when the instrumentation is either unreliable or is changed between pre- and posttesting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stica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ely high or low scores tend to regress to the mean on retes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stical regression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tudents perform poorly on a pretest it is difficult to determine if the gain in their scores is due to treatment eff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ial selection of particip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s in the control and experimental groups differ in ways that influence the dependent meas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s drop out of the study at differential rates across condi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In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 can interact with other threats to internal validity (i.e., history, maturation, instrumentatio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s selected into the treatment and control conditions have different experiences or maturation rates or instrumentation varies across condi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 validity threats can be divided into two categor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izing to whom’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s affecting groups to which the study can be gene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izing to what’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s affecting the settings, conditions, variables, and contexts to which the results can be gene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test-treatment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-treatment inter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-treatment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ity of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er eff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ctiv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test-treatment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threat occurs when participants respond differently to a treatment because they have been exposed to a pretes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st may alert participan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f-report measures are often susceptible to pretest-treatment interactio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etest-treatment intera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times, unobtrusive measures can be used as pretests, to limit this threat to validity (e.g., using previously administered standardized assessments to measure ability in science instead of using a pretes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0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nd provide examples of single-variable designs (i.e., pre-experimental, true experimental, and quasi-experimental designs) and factorial designs, and explain how they diff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-treatment inter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threat occurs when previous treatments cross-over into a current experiment.  This makes it challenging to determine the effectiveness of the later treatm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hreat may occur in studies that access participants who have been exposed to other research studies (e.g., university participant pool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-treatment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study’s findings only apply to the groups selected and are not representative of other grou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happen in non-randomly assigned studies where a treatment is less or more effective for certain demographics (e.g., ability level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ity of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researchers do not adequately define their variables, instruments, or population, it makes it difficult to determine how well the findings will generalize to an alternative popu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er eff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er effects occur when characteristics or behaviors of the experimenter influence the participants’ respon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ctiv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threats are also referred to as participant effects.  These threats are associated with differences in participants’ behavior, feelings, and attitudes because they are in a stud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ctiv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wthorne eff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y situation in which participants’ behavior is affected because they are in a stud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ohn Henry effect (Compensatory rivalry)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mbers of the control group compete with the experimental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reats to External Valid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ctiv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bo eff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combat compensatory rivalry, researchers attempt to give control groups a placebo, not the experimental treatment, but something to decrease the perception that they are in the control group. Participants should perceive they are all getting the same th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velty eff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participants are engaged in something different this may increase attention, interest, behavior, learning, etc., just because it is something new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roup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alidity of an experiment is a function of the degree to which extraneous variables are controll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ization is the best mechanism to control for extraneous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ization distinguishes experimental desig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ization should be used whenever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groups cannot be randomly formed, variables should be held constant when at all possible (e.g., time of day, which researcher is presen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roup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nt variables can be controlled and held const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ching can equate groups through random assignment of pai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ng homogeneous groups allows the researcher to control for extraneous variabl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roup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s can serve as their own controls to control for participant differ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covariance (ANCOVA) is a statistical procedure that can be used to control for participant variab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research is the only type of research that can test hypotheses to establish cause-effect rel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manipulates at least one independent variable and controls other relevant variables, and observes the effect on one or more dependent variabl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manipulates the treat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has control over selection and assignm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Group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ngle-variable desig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any design that involves one manipulated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experimental desig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adequately control for extraneous variables and should be avoi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ue-experimental desig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fer a very high degree of control and are always preferred desig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asi-experimental desig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control as well as experimental designs but are preferable over pre-experimental desig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Group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ial desig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any design that involves two or more independent variables, at least one that is manipul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-shot case stud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volves a single group that is exposed to a treatment (X) and then posttested (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ats to validity are not adequately controlled with this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e this desig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-group pretest-posttest desig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s a single group that is pretested, exposed to treatment, and then tested ag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uccess of the treatment is determined by comparing pretest and posttest sc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design does not control for history, testing, instrumentation, regression, or matur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regression is not controlled nor is pretest-treatment interactio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tic-group comparison desig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volves at least two nonrandomly formed groups.  One group receives an experimental treatment and the other group receives the traditional treatment. Both groups are posttes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umber of groups can be expanded beyond tw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roups are better described as comparison, not experimental and contr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design does not control for maturation, selection effects, selection interactions, and morta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control for history in this desig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design is sometimes used in exploratory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test-posttest control group desig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at least two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s are formed by random assignmen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groups are administered a pretest, each group receives a different treatment and both groups are posttes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sign may be extended to include additional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mbination of random assignment and the presence of a pretest and a control group serve to control for all threats to intern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nly potential weakness in this design is a possible interaction between the pretest and the treatm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should report assess and report the probability of a pretest-treatment inte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research studies the independent variable is also called the treatment, causal, or experimental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research studies the dependent variable is also called the criterion, effect, or posttest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a few variations on the basic pretest-posttest control group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ariation includes random assignment of matched pairs to the treatment grou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little advantage to this vari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variation of this design involves one or more additional post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test-only control gro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sign is the same as the pretest-posttest control group design except that it lacks a pret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design is often expanded to include more than two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osttest-only control group design is best used when there is likelihood of a pretest-treatment interaction thr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with the pretest-posttest control group design, the addition of a matched random assignment does not represent an increased advan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omon Four-Group Desig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combination of the pretest-posttest control group design and the posttest-only control group desig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alysis of the Solomon four-group design is a 2 x 2 factorial analysis of vari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analysis tests if those who received the treatment performed differently than those who did no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analysis can assess if there is a testing eff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analysis assesses for pretest-interactio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ue 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olomon four-group design requires a large number of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olomon four-group design may not always be the best desig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sign selected should be based upon potential threats and the nature of the proposed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t is not possible to assign participants to groups randomly, researchers can use quasi-experimental stud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equivalent control group design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or more treatment groups are pretested, administered a treatment, and posttes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nequivalent control group desig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s the random assignment of groups not individu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ck of random assignment introduces validity threats (e.g., regression, and selection interaction effect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threats when using this design researchers often assure groups are as equivalent as possible (e.g., use ANCOV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me-series desig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elaboration of the pretest-posttest desig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group is repeatedly pretested until pretest scores are stable. The group is then exposed to a treatment and after treatment is repeatedly posttested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O 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O   X 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   O   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tion of the time-series design is the multiple time-series design that includes a control gro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variation eliminates the history and instrumentation threa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O 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O  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   O   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O 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O  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   O   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research is the most structured of all research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conducted well, experimental research studies can provide evidence for cause-effect rel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experimental studies taken together can provide support for generalization of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 is a threat with time-series desig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ation may also be a threat if testing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test threats are problematic with time-series designs.  However, it is relatively easy to establish the degree of the threat given data from repeated testing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unterbalanced design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groups receive all treatments but in a different order and all groups are posttested after each treat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erbalanced designs can include any number of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groups is equal to the number of treat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ment order is randomly assig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si-Experiment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unique threat with a counter-balanced design is multiple treatment intera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i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ial Design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elaborations on single-variable experimental designs to permit investigation of two or more variables, at least one of which is manipulated by the resear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al designs are often employed after an independent variable has first been investigated individual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i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a factorial design is to determine whether the effects of an independent variable are generalizable across all lev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example of a factorial design is the 2 X 2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instruction (computer-based or paper and pencil) by gen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i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factors (independent variables) studies are possible to address specific research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xperi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eps in the experimental research process are the same as in other types of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ng and defining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ng participants and measuring instr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ing a research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ng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ing th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ng 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xperi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studies, the researcher controls selection and ass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tudies often examine comparisons between or among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 of approaches (A versus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 of an approach to an existing approach (A versus no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 of different amounts of a single approach (A little of A versus a lot of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xperi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research studies the group that receives the treatment is the experimental group and the group that does not receive the treatment is called the control gro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groups are comparison groups that receive alternative treatments (e.g., two types of instruction in a content area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20T18:15:45Z</dcterms:modified>
  <cp:revision>163</cp:revision>
  <dc:subject/>
  <dc:title>AutoCAD Architecture 2008: Part I: Getting Started</dc:title>
</cp:coreProperties>
</file>